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A9D8-9D12-4279-90F1-AB17061E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2CB-0C2D-4EAF-9844-0A295E80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9E3-314E-452F-8772-734FFA32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CA4-D02C-449E-82CA-05E9CC8E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DF46-FFE6-4808-B2E6-5C4E604D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DA77-273A-4CE8-80EE-1104F773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2C18-5B20-445F-BDEE-192B79B3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9696-A9FE-44D1-93EC-E99C86F1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BF1B-4DEB-44CC-9BCF-0C0249DD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B772-9BA1-4D4A-A021-1740B449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2FE0-3087-446D-8605-CB6AF772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A24-CBB0-4A39-9FF1-02AFDFE9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2585-13F3-47D9-8344-C82729B7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DBE3-64D8-4416-A6BE-05F93BE2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5A5D-0DA0-4E38-ADF6-63AD45D1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6F75-6B97-4EB2-AC07-AF7EFA14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BD3B-6FEC-4026-9B1C-C979B591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D41-D8E5-4974-9772-91B9100D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C54D-C4B1-41EA-925B-3F061D84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0784-D07C-4D7A-9B67-FDF3A19E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4A3A-4C0D-41C8-9E54-1CE6A1DF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C97-92F8-45DF-8E21-69229E9D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1F8-2096-4D6A-BFB1-2CDA4C7E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7D2-FF2B-4854-AD27-C2CCA74C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EC0D-1A28-423A-863E-1E3DDD57B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06E0-25C4-4A4E-983D-B421F28B5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arning Task Analysi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hley Gutier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wn Lep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th Willi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703dff"/>
                </a:solidFill>
                <a:latin typeface="Arial"/>
              </a:rPr>
              <a:t>Educational Objectives 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at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er will be able to empathize with the students due to their backgrounds or special circum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You need to use empathy when a student comes to school hungry. Some students do not get fed breakfast at h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703dff"/>
                </a:solidFill>
                <a:latin typeface="Arial"/>
              </a:rPr>
              <a:t>Educational Objective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 Knowled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 will constantly and consistently make modifications to the system as nee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703dff"/>
                </a:solidFill>
                <a:latin typeface="Arial"/>
              </a:rPr>
              <a:t>Pre-requiste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need to come with an open mind and be prepared to deal with situations that are out of their control and somewhat disturb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need to be able to be compassionate and show empathy towards students and their famil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703dff"/>
                </a:solidFill>
                <a:latin typeface="Arial"/>
              </a:rPr>
              <a:t>Go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learning goal is to reach at risk youth by using a system which includes: a combination of love, logic, consistency, and firmness in order to transform these children to a youth of promi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703dff"/>
                </a:solidFill>
                <a:latin typeface="Arial"/>
              </a:rPr>
              <a:t>Learning Theory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gne’s Learning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703dff"/>
                </a:solidFill>
                <a:latin typeface="Arial"/>
              </a:rPr>
              <a:t>Declarative Knowledge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s (teachers, principals, and counselors) will be familiar with the following terms: at risk factors, socioeconomic status, professional code of conduct, love &amp; logic, consistency, firmness, classroom community, and safe z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703dff"/>
                </a:solidFill>
                <a:latin typeface="Arial"/>
              </a:rPr>
              <a:t>Discriminate 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er will be able to use the system with all students and make proper modifications for at risk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er will be able to identify characteristics of a student who is considered to be at ris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327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703dff"/>
                </a:solidFill>
                <a:latin typeface="Arial"/>
              </a:rPr>
              <a:t>Rules/Proced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er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identify an at risk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implement the system in their classroom or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make necessary modifications to meet the needs of ALL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be consistent with using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reflect and evaluate yourself as an educator or 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3dff"/>
                </a:solidFill>
                <a:latin typeface="Arial"/>
              </a:rPr>
              <a:t>Attitude</a:t>
            </a: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 will have the best interest of each and every student and make necessary modifications to accommodat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703dff"/>
                </a:solidFill>
                <a:latin typeface="Arial"/>
              </a:rPr>
              <a:t>Educational Objective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 will be able to explain the difference between each student in his/her classroom or facility and modify our system to meet all of their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703dff"/>
                </a:solidFill>
                <a:latin typeface="Arial"/>
              </a:rPr>
              <a:t>Educational Objective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 will use their own knowledge of their students and interpret the best components of our system for each student, targeting “at risk”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05:57Z</dcterms:created>
  <dc:creator>Donnie Eiland</dc:creator>
  <dc:description/>
  <dc:language>en-US</dc:language>
  <cp:lastModifiedBy>Donnie Eiland</cp:lastModifiedBy>
  <dcterms:modified xsi:type="dcterms:W3CDTF">2010-05-06T23:03:13Z</dcterms:modified>
  <cp:revision>3</cp:revision>
  <dc:subject/>
  <dc:title>Learning Task Analysis</dc:title>
</cp:coreProperties>
</file>