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F85-EA7D-4CC9-967A-99D61D4A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00B-7257-42D5-A3DB-B026D35E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CE8-0CB6-490E-A3C6-BAE0A55B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715-71DD-4856-A241-6C9D4F64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875F-BD85-4E60-B291-9854BDD7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94A8-2311-4815-B8E9-FC4C1BEE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B2E3-00D8-4636-8599-4B5BEEF4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51A3-156E-45B4-AD76-DBD8AF1A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BC50-5CD8-4D5E-97D7-B28E6FB7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1B0C-0F09-4FCF-B2DE-8749E41B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0EB7-531B-45E3-8602-0D5EA092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78F-1B81-4D17-A8F4-41AC3127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9247-CAAC-4A71-AB0C-12BFCD8E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ACA4-0241-41B4-868E-F7F6D1B7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CA32-EE08-4322-B38D-8D3FF051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4D30-0489-416C-A552-F45FC415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16BE-5197-4A19-9161-EFF56407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E70-7D79-4CF0-B0B1-D6CD7671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E7D-DDAD-489D-BA43-A294E33C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63B-3155-472B-B0D7-16C17716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707-CC9C-4D1C-9AE1-BDB1C906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655-8AA1-49FA-8A25-8A20ABDD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767-07F4-4BE3-947F-CEB6E751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EBB-6578-43EA-83F2-3E945928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9E12-C0BC-4637-BC3A-C2795B6F5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F993-96D3-44C8-B9D0-C94D9F926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arning Task Analysi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ley Gutier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wn Lep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th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03dff"/>
                </a:solidFill>
                <a:latin typeface="Arial"/>
              </a:rPr>
              <a:t>Educational Objectives 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at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er will be able to empathize with the students due to their backgrounds or special circum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You need to use empathy when a student comes to school hungry. Some students do not get fed breakfast at h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703dff"/>
                </a:solidFill>
                <a:latin typeface="Arial"/>
              </a:rPr>
              <a:t>Educational Objective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 Knowled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will constantly and consistently make modifications to the system as nee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703dff"/>
                </a:solidFill>
                <a:latin typeface="Arial"/>
              </a:rPr>
              <a:t>Pre-requiste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need to come with an open mind and be prepared to deal with situations that are out of their control and somewhat disturb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need to be able to be compassionate and show empathy towards students and their famil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703dff"/>
                </a:solidFill>
                <a:latin typeface="Arial"/>
              </a:rPr>
              <a:t>Go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learning goal is to reach at risk youth by using a system which includes: a combination of love, logic, consistency, and firmness in order to transform these children to a youth of promi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703dff"/>
                </a:solidFill>
                <a:latin typeface="Arial"/>
              </a:rPr>
              <a:t>Learning Theory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gne’s Learning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703dff"/>
                </a:solidFill>
                <a:latin typeface="Arial"/>
              </a:rPr>
              <a:t>Declarative Knowledge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s (teachers, principals, and counselors) will be familiar with the following terms: at risk factors, socioeconomic status, professional code of conduct, love &amp; logic, consistency, firmness, classroom community, and safe z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703dff"/>
                </a:solidFill>
                <a:latin typeface="Arial"/>
              </a:rPr>
              <a:t>Discriminate 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er will be able to use the system with all students and make proper modifications for at risk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er will be able to identify characteristics of a student who is considered to be at ris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327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703dff"/>
                </a:solidFill>
                <a:latin typeface="Arial"/>
              </a:rPr>
              <a:t>Rules/Proced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er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identify an at risk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implement the system in their classroom or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make necessary modifications to meet the needs of AL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be consistent with using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reflect and evaluate yourself as an educator or 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3dff"/>
                </a:solidFill>
                <a:latin typeface="Arial"/>
              </a:rPr>
              <a:t>Attitude</a:t>
            </a: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will have the best interest of each and every student and make necessary modifications to accommodat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703dff"/>
                </a:solidFill>
                <a:latin typeface="Arial"/>
              </a:rPr>
              <a:t>Educational Objective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will be able to explain the difference between each student in his/her classroom or facility and modify our system to meet all of their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703dff"/>
                </a:solidFill>
                <a:latin typeface="Arial"/>
              </a:rPr>
              <a:t>Educational Objective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will use their own knowledge of their students and interpret the best components of our system for each student, targeting “at risk”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05:57Z</dcterms:created>
  <dc:creator>Donnie Eiland</dc:creator>
  <dc:description/>
  <dc:language>en-US</dc:language>
  <cp:lastModifiedBy>Donnie Eiland</cp:lastModifiedBy>
  <dcterms:modified xsi:type="dcterms:W3CDTF">2010-05-06T23:03:13Z</dcterms:modified>
  <cp:revision>3</cp:revision>
  <dc:subject/>
  <dc:title>Learning Task Analysis</dc:title>
</cp:coreProperties>
</file>