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3FE-7C2C-4279-A0FA-6AA01FEA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0BC-75F3-4F24-BED8-7ABACE89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0BF-6A43-47B8-B741-68D1CD3F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F50-0AA3-4AFD-B957-B44BA25E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6F8A-12D7-402C-9277-6D3F202F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B710-67C5-41F2-BAD1-ABD97FBD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8586-0DBC-4FCE-992A-02901BFD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CAA1-C797-46D3-A2A9-2464AA6D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B4C1-66DB-44A2-B71E-CB7C7E54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5CA-2AC5-4F70-91EE-8B21DE3D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8D81-0605-4F79-A466-D734756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794-42DF-42BE-9E80-BB8A5F6E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ACF6-3E3C-479A-8791-9EE3F942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9F9A-2B53-4DF0-A287-491320C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9384-5994-4A88-A7AF-24F05F76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F573-E7E2-43F8-9881-34A25E3D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A853-F995-41D8-B59C-5CB50DD1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C3F-18FC-496D-949E-4F300F4A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3EF-0A3A-4C03-AF54-3E815831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861-AF61-4470-B6FF-300CE72F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DED-8ACD-436E-ABD6-FB3B137D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50D-5D94-4DCD-A7B0-7EA7768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7CB-7EA1-412C-AAFC-7A48648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D1B-FB96-4717-B71B-FA18984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CB03-0BC3-4A2F-AC88-CE39A9818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09C0-299C-4969-84D6-D72BF0730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arning Task Analysi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ley Gutier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wn Lep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th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03dff"/>
                </a:solidFill>
                <a:latin typeface="Arial"/>
              </a:rPr>
              <a:t>Educational Objectives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at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 be able to empathize with the students due to their backgrounds or special circum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. You need to use empathy when a student comes to school hungry. Some students do not get fed breakfast at ho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703dff"/>
                </a:solidFill>
                <a:latin typeface="Arial"/>
              </a:rPr>
              <a:t>Educational Objective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 Knowled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constantly and consistently make modifications to the system as nee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703dff"/>
                </a:solidFill>
                <a:latin typeface="Arial"/>
              </a:rPr>
              <a:t>Pre-requist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need to come with an open mind and be prepared to deal with situations that are out of their control and somewhat disturb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need to be able to be compassionate and show empathy towards students and their famil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703dff"/>
                </a:solidFill>
                <a:latin typeface="Arial"/>
              </a:rPr>
              <a:t>Go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learning goal is to reach at risk youth by using a system which includes: a combination of love, logic, consistency, and firmness in order to transform these children to a youth of prom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703dff"/>
                </a:solidFill>
                <a:latin typeface="Arial"/>
              </a:rPr>
              <a:t>Learning Theory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gne’s Learning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703dff"/>
                </a:solidFill>
                <a:latin typeface="Arial"/>
              </a:rPr>
              <a:t>Declarative Knowledge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s (teachers, principals, and counselors) will be familiar with the following terms: at risk factors, socioeconomic status, professional code of conduct, love &amp; logic, consistency, firmness, classroom community, and safe z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703dff"/>
                </a:solidFill>
                <a:latin typeface="Arial"/>
              </a:rPr>
              <a:t>Discriminate 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 be able to use the system with all students and make proper modifications for at risk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 be able to identify characteristics of a student who is considered to be at ri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327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703dff"/>
                </a:solidFill>
                <a:latin typeface="Arial"/>
              </a:rPr>
              <a:t>Rules/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rner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identify an at risk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implement the system in their classroom or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make necessary modifications to meet the needs of ALL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be consistent with using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reflect and evaluate yourself as an educator or 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900" spc="-1" strike="noStrike">
                <a:solidFill>
                  <a:srgbClr val="703dff"/>
                </a:solidFill>
                <a:latin typeface="Arial"/>
              </a:rPr>
              <a:t>Attitude</a:t>
            </a:r>
            <a:endParaRPr b="0" lang="en-US" sz="10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have the best interest of each and every student and make necessary modifications to accommodat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703dff"/>
                </a:solidFill>
                <a:latin typeface="Arial"/>
              </a:rPr>
              <a:t>Educational Objective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be able to explain the difference between each student in his/her classroom or facility and modify our system to meet all of thei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703dff"/>
                </a:solidFill>
                <a:latin typeface="Arial"/>
              </a:rPr>
              <a:t>Educational Objective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rner will use their own knowledge of their students and interpret the best components of our system for each student, targeting “at risk”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05:57Z</dcterms:created>
  <dc:creator>Donnie Eiland</dc:creator>
  <dc:description/>
  <dc:language>en-US</dc:language>
  <cp:lastModifiedBy>Donnie Eiland</cp:lastModifiedBy>
  <dcterms:modified xsi:type="dcterms:W3CDTF">2010-05-06T23:03:13Z</dcterms:modified>
  <cp:revision>3</cp:revision>
  <dc:subject/>
  <dc:title>Learning Task Analysis</dc:title>
</cp:coreProperties>
</file>