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06588-2302-415F-9312-BA8FB5C8B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C9DD0-CC04-4DAB-9923-9025D7DB2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3C177-68B0-4BA6-8E01-BF1FB49F3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A07DC-B54E-469B-8A4D-74D9AC937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FF1EA-AB93-4AD9-AE76-1ECCEE83C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B2DC5-B5B3-4053-8BD0-1102EC373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89C366-BABE-4950-91FE-0090C21ED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A975B-64E4-4933-BF4B-345F7C2E6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C776E-2FF8-4490-AEFE-05A368433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75848-0BC6-4592-8D7D-4F410DCF7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63822-7BEF-4857-B48E-464423408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FDE54-B0A7-40C4-AF7B-0080845D1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F7DFF-1C38-456C-99A9-1C76DE62B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551A8-4A48-4962-B8D9-4B5FCCC43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1DD15-6BFD-467E-911D-6DA615B39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B088D-AB4B-4BE7-914B-FB83FB688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5B899-2806-489F-97F9-08605A839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2E957-F450-48F4-9493-3FF83CA2C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76A6-032F-4C94-BADB-315CAA9CD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BFDDB-84E2-4279-942D-FC1D5B411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5C011-BE4D-437B-A3FC-72356BDA2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AAB4-590C-4369-9AD8-186757502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0CECD-FED5-42D5-BBB9-7C2F2E73D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1EDCD-30B4-4864-9E0F-6D4245BAA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ADE9-58C5-4B12-8595-A5658D98A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FA26-B336-42CA-A512-E4214603C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pokaneschools.org/" TargetMode="External"/><Relationship Id="rId2" Type="http://schemas.openxmlformats.org/officeDocument/2006/relationships/hyperlink" Target="http://broadeducation.org/about/crisis_stats.html" TargetMode="External"/><Relationship Id="rId3" Type="http://schemas.openxmlformats.org/officeDocument/2006/relationships/hyperlink" Target="http://reportcard.opsi.wa.us/" TargetMode="External"/><Relationship Id="rId4" Type="http://schemas.openxmlformats.org/officeDocument/2006/relationships/hyperlink" Target="http://schooltree.org/" TargetMode="External"/><Relationship Id="rId5" Type="http://schemas.openxmlformats.org/officeDocument/2006/relationships/hyperlink" Target="http://www.visionrealization.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Candara"/>
              </a:rPr>
              <a:t>Needs Assessment</a:t>
            </a:r>
            <a:endParaRPr b="0" lang="en-US" sz="5200" spc="-1" strike="noStrike">
              <a:solidFill>
                <a:srgbClr val="ff0000"/>
              </a:solidFill>
              <a:latin typeface="Arial"/>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hley Gutierrez</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hawn Lepis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ith Willia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ing Curricula?</a:t>
            </a:r>
            <a:endParaRPr b="0" lang="en-US" sz="4400" spc="-1" strike="noStrike">
              <a:solidFill>
                <a:srgbClr val="000000"/>
              </a:solidFill>
              <a:latin typeface="Arial"/>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existing curricula that our system for at risk youth needs to fit directly i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this system covers all curricula. It is a system that should be used throughout the whole day and cover everything from math to recess. </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within the schools and different facilities for at risk youth vary due to fund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istrict 81 every school has a document camera, a projector and at least one COW (computers on wheels) which is enough for a class set. </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haracteristics of classes and facilities that should use our system</a:t>
            </a:r>
            <a:endParaRPr b="0" lang="en-US" sz="3700" spc="-1" strike="noStrike">
              <a:solidFill>
                <a:srgbClr val="000000"/>
              </a:solidFill>
              <a:latin typeface="Arial"/>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chool or facility that has at risk student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ter what school, or facility you work at you WILL have at least one student  who is at risk.</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that use our system are designed to serve at risk kid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chools it is very likely that our system would be dominate in Title 1 schools. </a:t>
            </a:r>
            <a:endParaRPr b="0" lang="en-US" sz="2800" spc="-1" strike="noStrike">
              <a:solidFill>
                <a:srgbClr val="000000"/>
              </a:solidFill>
              <a:latin typeface="Arial"/>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0"/>
            <a:ext cx="6870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the school system </a:t>
            </a:r>
            <a:endParaRPr b="0" lang="en-US" sz="4400" spc="-1" strike="noStrike">
              <a:solidFill>
                <a:srgbClr val="000000"/>
              </a:solidFill>
              <a:latin typeface="Arial"/>
            </a:endParaRPr>
          </a:p>
        </p:txBody>
      </p:sp>
      <p:sp>
        <p:nvSpPr>
          <p:cNvPr id="178"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fontScale="93000"/>
          </a:bodyPr>
          <a:p>
            <a:pPr marL="318960" indent="-3189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almost impossible to pinpoint characteristics of a school system. </a:t>
            </a:r>
            <a:endParaRPr b="0" lang="en-US" sz="2500" spc="-1" strike="noStrike">
              <a:solidFill>
                <a:srgbClr val="000000"/>
              </a:solidFill>
              <a:latin typeface="Arial"/>
            </a:endParaRPr>
          </a:p>
          <a:p>
            <a:pPr marL="318960" indent="-3189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in each school district there are always going to be some nicer schools and there also will always be Title 1 schools. </a:t>
            </a:r>
            <a:endParaRPr b="0" lang="en-US" sz="2500" spc="-1" strike="noStrike">
              <a:solidFill>
                <a:srgbClr val="000000"/>
              </a:solidFill>
              <a:latin typeface="Arial"/>
            </a:endParaRPr>
          </a:p>
          <a:p>
            <a:pPr marL="318960" indent="-3189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in each school there is a separate system for dealing with students. Schools are much like students, none of them are exactly alike. </a:t>
            </a:r>
            <a:endParaRPr b="0" lang="en-US" sz="25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in each district there are different communities. Some parents care and respect education while others don’t care and have a lack of respect for educat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0000"/>
                </a:solidFill>
                <a:latin typeface="Candara"/>
              </a:rPr>
              <a:t>Hope</a:t>
            </a:r>
            <a:endParaRPr b="0" lang="en-US" sz="8600" spc="-1" strike="noStrike">
              <a:solidFill>
                <a:srgbClr val="000000"/>
              </a:solidFill>
              <a:latin typeface="Arial"/>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2/3 of high risk children experience one or more negative life outc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at means that 1/3 beat the odds….</a:t>
            </a:r>
            <a:endParaRPr b="0" lang="en-US" sz="3200" spc="-1" strike="noStrike">
              <a:solidFill>
                <a:srgbClr val="000000"/>
              </a:solidFill>
              <a:latin typeface="Arial"/>
            </a:endParaRPr>
          </a:p>
        </p:txBody>
      </p:sp>
      <p:pic>
        <p:nvPicPr>
          <p:cNvPr id="181" name="" descr=""/>
          <p:cNvPicPr/>
          <p:nvPr/>
        </p:nvPicPr>
        <p:blipFill>
          <a:blip r:embed="rId1"/>
          <a:stretch/>
        </p:blipFill>
        <p:spPr>
          <a:xfrm>
            <a:off x="4572000" y="3906720"/>
            <a:ext cx="3662280" cy="275904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1"/>
              </a:rPr>
              <a:t>www.spokaneschools.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2"/>
              </a:rPr>
              <a:t>http://broadeducation.org/about/crisis_stats.ht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3"/>
              </a:rPr>
              <a:t>http://reportcard.opsi.wa.u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4"/>
              </a:rPr>
              <a:t>http://schooltree.or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5"/>
              </a:rPr>
              <a:t>www.visionrealization.co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Life Statistics</a:t>
            </a:r>
            <a:endParaRPr b="0" lang="en-US" sz="4400" spc="-1" strike="noStrike">
              <a:solidFill>
                <a:srgbClr val="000000"/>
              </a:solidFill>
              <a:latin typeface="Arial"/>
            </a:endParaRPr>
          </a:p>
        </p:txBody>
      </p:sp>
      <p:sp>
        <p:nvSpPr>
          <p:cNvPr id="154" name="PlaceHolder 2"/>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 3 kids do not graduate from high school in Spok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 4 children under 6 lives below the poverty 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year spent in poverty reduces by 2 percentage points a child’s chance of graduating from high sch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outs from the class of 2007 have cost our nation more than 300 billion in lost wages, lost taxes, and lost productivit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cary statistics</a:t>
            </a:r>
            <a:endParaRPr b="0" lang="en-US" sz="4400" spc="-1" strike="noStrike">
              <a:solidFill>
                <a:srgbClr val="000000"/>
              </a:solidFill>
              <a:latin typeface="Arial"/>
            </a:endParaRPr>
          </a:p>
        </p:txBody>
      </p:sp>
      <p:sp>
        <p:nvSpPr>
          <p:cNvPr id="156"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1066680" y="1295280"/>
            <a:ext cx="5486400" cy="335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of convicts in the U.S. are dropouts and lack of education is one of the strongest predictors of criminal activity.</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year, the U.S. spends $9,644 per student opposed to $22,600 per prison inmate.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8" name="" descr=""/>
          <p:cNvPicPr/>
          <p:nvPr/>
        </p:nvPicPr>
        <p:blipFill>
          <a:blip r:embed="rId1"/>
          <a:stretch/>
        </p:blipFill>
        <p:spPr>
          <a:xfrm>
            <a:off x="3352680" y="4343400"/>
            <a:ext cx="4572000" cy="2286000"/>
          </a:xfrm>
          <a:prstGeom prst="rect">
            <a:avLst/>
          </a:prstGeom>
          <a:ln w="0">
            <a:noFill/>
          </a:ln>
        </p:spPr>
      </p:pic>
    </p:spTree>
  </p:cSld>
  <p:transition spd="slow">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endCondLst>
                                    <p:cond evt="begin"/>
                                  </p:endCondLst>
                                  <p:childTnLst>
                                    <p:set>
                                      <p:cBhvr>
                                        <p:cTn id="24"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5"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at risk mean?</a:t>
            </a:r>
            <a:endParaRPr b="0" lang="en-US" sz="4400" spc="-1" strike="noStrike">
              <a:solidFill>
                <a:srgbClr val="000000"/>
              </a:solidFill>
              <a:latin typeface="Arial"/>
            </a:endParaRPr>
          </a:p>
        </p:txBody>
      </p:sp>
      <p:sp>
        <p:nvSpPr>
          <p:cNvPr id="160"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rm used to describe students whose economic, physical, emotional, or academic needs go unmet or serve as barriers to talent recognition or development, thus putting them in danger of underachieving or dropping out.</a:t>
            </a:r>
            <a:endParaRPr b="0" lang="en-US" sz="3200" spc="-1" strike="noStrike">
              <a:solidFill>
                <a:srgbClr val="000000"/>
              </a:solidFill>
              <a:latin typeface="Arial"/>
            </a:endParaRPr>
          </a:p>
        </p:txBody>
      </p:sp>
      <p:pic>
        <p:nvPicPr>
          <p:cNvPr id="161" name="" descr=""/>
          <p:cNvPicPr/>
          <p:nvPr/>
        </p:nvPicPr>
        <p:blipFill>
          <a:blip r:embed="rId1"/>
          <a:stretch/>
        </p:blipFill>
        <p:spPr>
          <a:xfrm>
            <a:off x="2971800" y="4343400"/>
            <a:ext cx="2743200" cy="25146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2280"/>
            <a:ext cx="7924680" cy="647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gram consists of several components and has a designed system within it. </a:t>
            </a:r>
            <a:br>
              <a:rPr sz="4400"/>
            </a:br>
            <a:br>
              <a:rPr sz="4400"/>
            </a:br>
            <a:r>
              <a:rPr b="0" lang="en-US" sz="5500" spc="-1" strike="noStrike">
                <a:solidFill>
                  <a:srgbClr val="ff0000"/>
                </a:solidFill>
                <a:latin typeface="Candara"/>
              </a:rPr>
              <a:t>Turning youth </a:t>
            </a:r>
            <a:br>
              <a:rPr sz="5500"/>
            </a:br>
            <a:r>
              <a:rPr b="0" lang="en-US" sz="5500" spc="-1" strike="noStrike">
                <a:solidFill>
                  <a:srgbClr val="ff0000"/>
                </a:solidFill>
                <a:latin typeface="Candara"/>
              </a:rPr>
              <a:t>“at risk” </a:t>
            </a:r>
            <a:br>
              <a:rPr sz="5500"/>
            </a:br>
            <a:r>
              <a:rPr b="0" lang="en-US" sz="5500" spc="-1" strike="noStrike">
                <a:solidFill>
                  <a:srgbClr val="ff0000"/>
                </a:solidFill>
                <a:latin typeface="Candara"/>
              </a:rPr>
              <a:t>to youth </a:t>
            </a:r>
            <a:br>
              <a:rPr sz="5500"/>
            </a:br>
            <a:r>
              <a:rPr b="0" lang="en-US" sz="5500" spc="-1" strike="noStrike">
                <a:solidFill>
                  <a:srgbClr val="ff0000"/>
                </a:solidFill>
                <a:latin typeface="Candara"/>
              </a:rPr>
              <a:t>“of promise”</a:t>
            </a:r>
            <a:endParaRPr b="0" lang="en-US" sz="55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Finding-Problem Solving Assessment</a:t>
            </a:r>
            <a:endParaRPr b="0" lang="en-US" sz="4400" spc="-1" strike="noStrike">
              <a:solidFill>
                <a:srgbClr val="000000"/>
              </a:solidFill>
              <a:latin typeface="Arial"/>
            </a:endParaRPr>
          </a:p>
        </p:txBody>
      </p:sp>
      <p:sp>
        <p:nvSpPr>
          <p:cNvPr id="164"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hose this model because we already have a problem that affects students, teachers, administrators,the community, the state, and our country.</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deals with at risk youth and  several different failed systems targeted towards at risk youth within public schools.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cores are down, truancy is a problem, students are dropping out, and students don’t feel safe at school. </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or training need</a:t>
            </a:r>
            <a:endParaRPr b="0" lang="en-US" sz="4400" spc="-1" strike="noStrike">
              <a:solidFill>
                <a:srgbClr val="000000"/>
              </a:solidFill>
              <a:latin typeface="Arial"/>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our program we feel as though it is necessary to have a training session (s) as well as a written instructional guideline. </a:t>
            </a:r>
            <a:endParaRPr b="0" lang="en-US" sz="3200" spc="-1" strike="noStrike">
              <a:solidFill>
                <a:srgbClr val="000000"/>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are the characteristics of the teachers/trainers who will be using the new system?</a:t>
            </a:r>
            <a:endParaRPr b="0" lang="en-US" sz="3400" spc="-1" strike="noStrike">
              <a:solidFill>
                <a:srgbClr val="000000"/>
              </a:solidFill>
              <a:latin typeface="Arial"/>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one working with at risk youth can use the new system.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principals, and counselors at public schools or private facilities working with at risk youth are the main people.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se teachers, principals, and counselors can be found at Title 1 schools. But, some can also be found at places like Daybreak or Crosswalk. </a:t>
            </a:r>
            <a:endParaRPr b="0" lang="en-US" sz="28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haracteristics of learners and teachers working with our program</a:t>
            </a:r>
            <a:endParaRPr b="0" lang="en-US" sz="3300" spc="-1" strike="noStrike">
              <a:solidFill>
                <a:srgbClr val="000000"/>
              </a:solidFill>
              <a:latin typeface="Arial"/>
            </a:endParaRPr>
          </a:p>
        </p:txBody>
      </p:sp>
      <p:sp>
        <p:nvSpPr>
          <p:cNvPr id="170"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from low income  famili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in the foster care syste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who do not have a “good” home life. (this can be for a variety of reason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who have been sexually, physically, verbally, or mentally abused</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that abuses drugs and alcohol</a:t>
            </a:r>
            <a:endParaRPr b="0" lang="en-US" sz="24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0:40:26Z</dcterms:created>
  <dc:creator>Donnie Eiland</dc:creator>
  <dc:description/>
  <dc:language>en-US</dc:language>
  <cp:lastModifiedBy>Donnie Eiland</cp:lastModifiedBy>
  <dcterms:modified xsi:type="dcterms:W3CDTF">2010-04-22T23:57:15Z</dcterms:modified>
  <cp:revision>15</cp:revision>
  <dc:subject/>
  <dc:title>Needs Assessment</dc:title>
</cp:coreProperties>
</file>